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383625" cy="1511935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47A6-ADCD-4BF7-9A4D-38A38E51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9560" y="3527280"/>
            <a:ext cx="1924524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9560" y="8739720"/>
            <a:ext cx="1924524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5CF8-A782-48BA-BF7F-E1C8373A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9560" y="352728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30680" y="352728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9560" y="873972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930680" y="873972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1DB-58B9-465F-B42C-8390C19F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9560" y="3527280"/>
            <a:ext cx="619668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576560" y="3527280"/>
            <a:ext cx="619668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083200" y="3527280"/>
            <a:ext cx="619668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9560" y="8739720"/>
            <a:ext cx="619668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576560" y="8739720"/>
            <a:ext cx="619668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083200" y="8739720"/>
            <a:ext cx="619668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D7F0-0B3F-4912-AF69-CE7C7D4B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9560" y="3527280"/>
            <a:ext cx="19245240" cy="997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40FA-6A49-4B36-B0AE-CC0678D1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9560" y="3527280"/>
            <a:ext cx="19245240" cy="99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D45E-5396-4F57-984F-B824166B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9560" y="3527280"/>
            <a:ext cx="9391320" cy="99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0680" y="3527280"/>
            <a:ext cx="9391320" cy="99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FB91-FFBF-45CA-BF14-A81ADCB4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CB8-238E-4DEB-AD14-14AC7B3E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604440"/>
            <a:ext cx="19245240" cy="116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B9E-1384-4DBF-B7C8-9A9C7D00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9560" y="352728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930680" y="3527280"/>
            <a:ext cx="9391320" cy="99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9560" y="873972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EF95-6139-44BA-A525-BA97C6E9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9560" y="3527280"/>
            <a:ext cx="9391320" cy="99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930680" y="352728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930680" y="873972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79DD-8C92-4E22-A6E9-CBD798FB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9560" y="352728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930680" y="3527280"/>
            <a:ext cx="939132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9560" y="8739720"/>
            <a:ext cx="1924524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043-C48E-4D83-92E7-813E1633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604440"/>
            <a:ext cx="192452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r>
              <a:rPr b="0" lang="en-US" sz="9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9560" y="3527280"/>
            <a:ext cx="19245240" cy="99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717840" indent="-71784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1" marL="1556280" indent="-59868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2" marL="2394720" indent="-4795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3" marL="3350880" indent="-4777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4" marL="4308840" indent="-47808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5" marL="4308840" indent="-47808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6" marL="4308840" indent="-47808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2016000"/>
                <a:tab algn="l" pos="4032360"/>
                <a:tab algn="l" pos="6048360"/>
                <a:tab algn="l" pos="8064360"/>
                <a:tab algn="l" pos="1008072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9920" y="13768200"/>
            <a:ext cx="498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05480" y="13768200"/>
            <a:ext cx="67719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3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325560" y="13768200"/>
            <a:ext cx="498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3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3B0F-FBE3-460B-8A8E-42CA4425C86E}" type="slidenum">
              <a:rPr b="0" lang="zh-CN" sz="3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7"/>
          <p:cNvSpPr/>
          <p:nvPr/>
        </p:nvSpPr>
        <p:spPr>
          <a:xfrm>
            <a:off x="5477040" y="3844800"/>
            <a:ext cx="10604160" cy="2289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1182600" y="1274760"/>
            <a:ext cx="1875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附件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湖南省既有住宅加装电梯项目审批流程指导图            总审批时限：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工作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7"/>
          <p:cNvSpPr/>
          <p:nvPr/>
        </p:nvSpPr>
        <p:spPr>
          <a:xfrm>
            <a:off x="16347960" y="2787480"/>
            <a:ext cx="3834000" cy="6033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00"/>
                </a:solidFill>
                <a:latin typeface="Arial"/>
              </a:rPr>
              <a:t>第四阶段（竣工验收阶段）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19"/>
          <p:cNvSpPr/>
          <p:nvPr/>
        </p:nvSpPr>
        <p:spPr>
          <a:xfrm>
            <a:off x="16347960" y="2787480"/>
            <a:ext cx="3834000" cy="6033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sz="1700" spc="-1" strike="noStrike">
                <a:solidFill>
                  <a:srgbClr val="000000"/>
                </a:solidFill>
                <a:latin typeface="Arial"/>
              </a:rPr>
              <a:t>第四阶段（竣工验收阶段）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00"/>
                </a:solidFill>
                <a:latin typeface="Arial"/>
              </a:rPr>
              <a:t>阶段时限：</a:t>
            </a:r>
            <a:r>
              <a:rPr b="1" sz="17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sz="1700" spc="-1" strike="noStrike">
                <a:solidFill>
                  <a:srgbClr val="000000"/>
                </a:solidFill>
                <a:latin typeface="Arial"/>
              </a:rPr>
              <a:t>个工作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64"/>
          <p:cNvSpPr/>
          <p:nvPr/>
        </p:nvSpPr>
        <p:spPr>
          <a:xfrm>
            <a:off x="8204040" y="5381640"/>
            <a:ext cx="60613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设工程质量安全监督手续办理和建筑工程施工许可证核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审批时限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工作日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71"/>
          <p:cNvSpPr/>
          <p:nvPr/>
        </p:nvSpPr>
        <p:spPr>
          <a:xfrm>
            <a:off x="16735320" y="3841920"/>
            <a:ext cx="3446640" cy="2288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72"/>
          <p:cNvSpPr/>
          <p:nvPr/>
        </p:nvSpPr>
        <p:spPr>
          <a:xfrm>
            <a:off x="16851240" y="5162400"/>
            <a:ext cx="3214800" cy="714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设工程竣工验收备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审批时限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工作日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73"/>
          <p:cNvSpPr/>
          <p:nvPr/>
        </p:nvSpPr>
        <p:spPr>
          <a:xfrm>
            <a:off x="16851240" y="4110120"/>
            <a:ext cx="3214800" cy="831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联合验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（自然资源与规划、城建档案、消防等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（审批时限：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个工作日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53"/>
          <p:cNvSpPr/>
          <p:nvPr/>
        </p:nvSpPr>
        <p:spPr>
          <a:xfrm>
            <a:off x="3083040" y="11115720"/>
            <a:ext cx="15035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注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该类项目原则上应在湖南省工程建设项目审批管理系统进行办理。审批时限自受理之日起计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虚线框内的事项实行并联审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行政审批、备案和依法由政府组织、委托或购买服务的技术审查、中介服务均计入相应审批事项的审批时限；市政公用服务报装办理时间计入审批总时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任意多边形 3"/>
          <p:cNvSpPr/>
          <p:nvPr/>
        </p:nvSpPr>
        <p:spPr>
          <a:xfrm>
            <a:off x="5810400" y="2787480"/>
            <a:ext cx="6600600" cy="603360"/>
          </a:xfrm>
          <a:prstGeom prst="pi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8"/>
          <p:cNvSpPr/>
          <p:nvPr/>
        </p:nvSpPr>
        <p:spPr>
          <a:xfrm>
            <a:off x="5450040" y="7551720"/>
            <a:ext cx="10605960" cy="2789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0"/>
          <p:cNvSpPr/>
          <p:nvPr/>
        </p:nvSpPr>
        <p:spPr>
          <a:xfrm>
            <a:off x="5599080" y="8232840"/>
            <a:ext cx="10309320" cy="782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工程建设涉及城市绿地、树木审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审批时限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工作日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31"/>
          <p:cNvSpPr/>
          <p:nvPr/>
        </p:nvSpPr>
        <p:spPr>
          <a:xfrm>
            <a:off x="5610240" y="9231480"/>
            <a:ext cx="10287000" cy="839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工程建设需要拆除、改动、迁移供水、排水与污水处理设施审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审批时限：即办件，实行告知承诺制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9"/>
          <p:cNvSpPr/>
          <p:nvPr/>
        </p:nvSpPr>
        <p:spPr>
          <a:xfrm>
            <a:off x="6086520" y="7694640"/>
            <a:ext cx="93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第一、二、三阶段可并联或并行办理的其它事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4"/>
          <p:cNvSpPr/>
          <p:nvPr/>
        </p:nvSpPr>
        <p:spPr>
          <a:xfrm>
            <a:off x="8780400" y="2787480"/>
            <a:ext cx="7567560" cy="60336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5"/>
          <p:cNvSpPr/>
          <p:nvPr/>
        </p:nvSpPr>
        <p:spPr>
          <a:xfrm>
            <a:off x="5146560" y="2787480"/>
            <a:ext cx="3645000" cy="60336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9"/>
          <p:cNvSpPr/>
          <p:nvPr/>
        </p:nvSpPr>
        <p:spPr>
          <a:xfrm>
            <a:off x="8674200" y="2793960"/>
            <a:ext cx="215640" cy="5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0"/>
          <p:cNvSpPr/>
          <p:nvPr/>
        </p:nvSpPr>
        <p:spPr>
          <a:xfrm>
            <a:off x="8190000" y="4079880"/>
            <a:ext cx="501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设工程规划许可证核发（含设计方案审查等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审批时限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工作日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接箭头连接符 21"/>
          <p:cNvCxnSpPr/>
          <p:nvPr/>
        </p:nvCxnSpPr>
        <p:spPr>
          <a:xfrm>
            <a:off x="16056000" y="4916160"/>
            <a:ext cx="6912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直接连接符 13"/>
          <p:cNvSpPr/>
          <p:nvPr/>
        </p:nvSpPr>
        <p:spPr>
          <a:xfrm>
            <a:off x="1182600" y="6905520"/>
            <a:ext cx="1949940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2"/>
          <p:cNvSpPr/>
          <p:nvPr/>
        </p:nvSpPr>
        <p:spPr>
          <a:xfrm>
            <a:off x="5035680" y="2787480"/>
            <a:ext cx="11312280" cy="603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1700" spc="-1" strike="noStrike">
                <a:solidFill>
                  <a:srgbClr val="000000"/>
                </a:solidFill>
                <a:latin typeface="Arial"/>
              </a:rPr>
              <a:t>第一阶段（用地规划许可阶段）、第二阶段（工程建设许可阶段）和第三阶段（施工许可阶段）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00"/>
                </a:solidFill>
                <a:latin typeface="Arial"/>
              </a:rPr>
              <a:t>阶段时限：</a:t>
            </a:r>
            <a:r>
              <a:rPr b="1" sz="17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sz="1700" spc="-1" strike="noStrike">
                <a:solidFill>
                  <a:srgbClr val="000000"/>
                </a:solidFill>
                <a:latin typeface="Arial"/>
              </a:rPr>
              <a:t>个工作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8"/>
          <p:cNvSpPr/>
          <p:nvPr/>
        </p:nvSpPr>
        <p:spPr>
          <a:xfrm>
            <a:off x="8051760" y="4799160"/>
            <a:ext cx="52862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施工图设计文件审查（含消防）（审批时限：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8+3</a:t>
            </a:r>
            <a:r>
              <a:rPr b="0" sz="1200" spc="-1" strike="noStrike">
                <a:solidFill>
                  <a:srgbClr val="000000"/>
                </a:solidFill>
                <a:latin typeface="Arial"/>
              </a:rPr>
              <a:t>个工作日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8"/>
          <p:cNvGrpSpPr/>
          <p:nvPr/>
        </p:nvGrpSpPr>
        <p:grpSpPr>
          <a:xfrm>
            <a:off x="5450040" y="4606920"/>
            <a:ext cx="10605600" cy="714240"/>
            <a:chOff x="5450040" y="4606920"/>
            <a:chExt cx="10605600" cy="714240"/>
          </a:xfrm>
        </p:grpSpPr>
        <p:sp>
          <p:nvSpPr>
            <p:cNvPr id="64" name="直接连接符 23"/>
            <p:cNvSpPr/>
            <p:nvPr/>
          </p:nvSpPr>
          <p:spPr>
            <a:xfrm>
              <a:off x="5513760" y="4606920"/>
              <a:ext cx="105418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直接连接符 2"/>
            <p:cNvSpPr/>
            <p:nvPr/>
          </p:nvSpPr>
          <p:spPr>
            <a:xfrm>
              <a:off x="5450040" y="5321160"/>
              <a:ext cx="105418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文本框 14"/>
          <p:cNvSpPr/>
          <p:nvPr/>
        </p:nvSpPr>
        <p:spPr>
          <a:xfrm>
            <a:off x="1506600" y="3889440"/>
            <a:ext cx="3360600" cy="224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0"/>
          <p:cNvSpPr/>
          <p:nvPr/>
        </p:nvSpPr>
        <p:spPr>
          <a:xfrm>
            <a:off x="1608120" y="4272120"/>
            <a:ext cx="3157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申请人在正式报建前需征求所在单位全体业主意见，业主意见征询完成达成一致后，业主应当协商确定增设电梯项目的承建单位，承建单位拟制增设电梯初步方案，向所在社区申请增设电梯事项公示等报建准备工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五边形 15"/>
          <p:cNvSpPr/>
          <p:nvPr/>
        </p:nvSpPr>
        <p:spPr>
          <a:xfrm>
            <a:off x="1504800" y="2755800"/>
            <a:ext cx="3630600" cy="603360"/>
          </a:xfrm>
          <a:custGeom>
            <a:avLst/>
            <a:gdLst>
              <a:gd name="textAreaLeft" fmla="*/ 0 w 3630600"/>
              <a:gd name="textAreaRight" fmla="*/ 3630960 w 3630600"/>
              <a:gd name="textAreaTop" fmla="*/ 0 h 603360"/>
              <a:gd name="textAreaBottom" fmla="*/ 603360 h 60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00"/>
                </a:solidFill>
                <a:latin typeface="Arial"/>
              </a:rPr>
              <a:t>意见协同阶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直接箭头连接符 11"/>
          <p:cNvCxnSpPr/>
          <p:nvPr/>
        </p:nvCxnSpPr>
        <p:spPr>
          <a:xfrm>
            <a:off x="4874760" y="4916160"/>
            <a:ext cx="577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页脚占位符 30"/>
          <p:cNvSpPr/>
          <p:nvPr/>
        </p:nvSpPr>
        <p:spPr>
          <a:xfrm>
            <a:off x="7305840" y="13768560"/>
            <a:ext cx="677196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宋体"/>
              </a:rPr>
              <a:t>— </a:t>
            </a:r>
            <a:r>
              <a:rPr b="0" sz="1400" spc="-1" strike="noStrike">
                <a:solidFill>
                  <a:srgbClr val="000000"/>
                </a:solidFill>
                <a:latin typeface="宋体"/>
              </a:rPr>
              <a:t>34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9T04:13:00Z</dcterms:created>
  <dc:creator>xuhao</dc:creator>
  <dc:description/>
  <dc:language>en-US</dc:language>
  <cp:lastModifiedBy>贺雪莲 172.16.19.111</cp:lastModifiedBy>
  <dcterms:modified xsi:type="dcterms:W3CDTF">2023-07-28T08:16:25Z</dcterms:modified>
  <cp:revision>3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B4D93CE853044FB3BDCB9C99533CDDBF</vt:lpwstr>
  </property>
  <property fmtid="{D5CDD505-2E9C-101B-9397-08002B2CF9AE}" pid="3" name="KSOProductBuildVer">
    <vt:lpwstr>2052-11.1.0.13703</vt:lpwstr>
  </property>
</Properties>
</file>